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3080-F837-4112-A369-82E26BB3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histlervetservices.ca/diagnostic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s://irc.cchmc.org/about/facilities/7t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owstuffworks.com/nanotechnolog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AM-679_FLAP_inhibitor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dgadget.com/2010/04/alair_bronchial_thermoplasty_system_receives_fda_approval_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vice.com/archives/2010/03/turn-yourself-i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ostonscientific.com/lifebeat-online/cardiac-procedures/cardiac-catheteriz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s.vancouversun.com/2012/02/28/pet-scans-underused-underfunded-everywhere-except-quebec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heart-disease/doppler-ultrasound-of-an-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eartfailurematters.org/EN/WhatCanYourDoctorDo/Pages/221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utler.brocku.ca/oehs/emergency/defib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arp.ca/?attachment_id=108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et/weight-loss-surgery/restrictive-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cadianaweightlosssurgery.com/gastric-banding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pbiomedical.com/2007/06/cath-lab-angiograph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pcmag.com/encyclopedia/term/50587/robotic-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edicaltextboks.blogspot.ca/2013/04/textbook-endoscop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Heart Surgery image from: http://www.laserdudes.com/2012/04/laser-heart-surgery-facts-you-should-know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salasikcenters.com/laser-eye-surg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owstuffworks.com/mr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amiltonhealth.ca/cvs/mri-campaign/what-is-m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atterypark.tv/doctors-dentists/doctors-rarely-tell-patients-of-ct-scan-ri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mm.edu/patiented/articles/bronchial_cancer_ct_scan_00018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5C3-33F6-415D-BBFE-CEA8E3B9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6FE-FC52-42F0-BFA7-36D08495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265-1073-4BFD-AC4B-6A133522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E56-6F92-4C7D-8C2A-4C53A48D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1BE-42EA-4B6B-9B75-233E5545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857-4ADE-4426-9F10-1D0C5D3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5EB-DDCF-4F95-8EC7-98579064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5C4-3E29-4503-ABA2-3D1163BB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D93-8903-4D83-B883-45BF553F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6D2-3EBB-448E-8AFA-6B6D0DE5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C04-A764-409A-9205-D8B4A41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ED9-72CD-4CCC-82B2-5930E701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9892-6624-42B1-A7CE-CE314A7C8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es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M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no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P Inhib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nchial Thermopl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38280" y="1981080"/>
            <a:ext cx="606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Lu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70160" y="1981080"/>
            <a:ext cx="46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Cathe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03560" y="1981080"/>
            <a:ext cx="473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 S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59040" y="1981080"/>
            <a:ext cx="542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pler Ultra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15880" y="1981080"/>
            <a:ext cx="6310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67080" y="1981080"/>
            <a:ext cx="420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12840" y="1981080"/>
            <a:ext cx="491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757080"/>
            <a:ext cx="777240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ch Sta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71640" y="1981080"/>
            <a:ext cx="360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B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89440" y="1981080"/>
            <a:ext cx="316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86080" y="1981080"/>
            <a:ext cx="437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67000" y="1981080"/>
            <a:ext cx="620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3160" y="609480"/>
            <a:ext cx="4116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2960" y="1981080"/>
            <a:ext cx="605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47880" y="609480"/>
            <a:ext cx="5448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77800" y="1981080"/>
            <a:ext cx="618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T S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8920" y="1981080"/>
            <a:ext cx="6086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1:49:10Z</dcterms:created>
  <dc:creator>rubina khan</dc:creator>
  <dc:description/>
  <dc:language>en-US</dc:language>
  <cp:lastModifiedBy>rubina khan</cp:lastModifiedBy>
  <dcterms:modified xsi:type="dcterms:W3CDTF">2013-05-13T02:24:15Z</dcterms:modified>
  <cp:revision>14</cp:revision>
  <dc:subject/>
  <dc:title>Internal Systems</dc:title>
</cp:coreProperties>
</file>